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10F-A736-4DF4-B422-8DEACCF5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DC3-FCA5-402A-818B-B9F696DC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737-F529-48B9-ADEF-7306A9D4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1F1-F275-47C6-9D7B-9979A069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167-BF9F-46FD-B467-2419AC94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D09-82E6-41AA-A933-529DF59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60E-A0F9-4E64-8B19-35AAF437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616-0701-4E10-B8FB-41FF133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0CE-DB25-4405-8F74-F7709721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3BC-11F1-41E6-957F-08314DA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484-2261-4128-AEFD-8EBC0EA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A9D-B06F-44A0-AEFF-7B09797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D075-9A9B-4A92-96BE-6325750B2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a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each image or word, please write down the first word or words that come to mind. Make sure that you write without censoring your thoughts or thinking too mu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AVA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JUNG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49680" y="1611360"/>
            <a:ext cx="17096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IVILIZ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1640" y="1143000"/>
            <a:ext cx="3060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4:07:22Z</dcterms:created>
  <dc:creator>Information Systems</dc:creator>
  <dc:description/>
  <dc:language>en-US</dc:language>
  <cp:lastModifiedBy>Information Systems</cp:lastModifiedBy>
  <dcterms:modified xsi:type="dcterms:W3CDTF">2007-01-09T05:16:02Z</dcterms:modified>
  <cp:revision>6</cp:revision>
  <dc:subject/>
  <dc:title>Assumptions</dc:title>
</cp:coreProperties>
</file>